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6F4-9881-4CE6-8DE4-BDC10FC6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6A8-5257-4154-8FFA-FAEF06DC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AF473-DEF5-4734-909E-DDB156CC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2FF11-8C96-4B9E-B617-0B32C4E2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A5E82-E772-4C5B-A6D9-DE736293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AB153-3612-4274-BA27-9C7B947E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C3A93-0196-497E-A7F9-77FFE341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3FBC8-E8CB-417F-AE75-F082EBCD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AE572-45E8-4AEF-8CC7-767A6716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50A1A-091A-41BC-81A2-966DB7BB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AA211-8AA9-45B4-B542-B1325DD0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48910-8ADA-4915-963D-DC9F61DC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6A5-C3FC-48F1-900F-9D0ACD67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A191D-EFBE-4877-9A9F-1323CCB4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F3813-48FC-463A-80E9-B31F421F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B6FAB-6137-4756-A803-DDE99186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26F79-354D-42C5-B46C-E140F3BF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7716F-3FAD-418D-A524-B24A23DB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21E3A-EA74-42F7-B71C-9D1148DF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28EFA-CF75-47A9-9DE0-2CCDF390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55034-E0A3-488B-8644-99E69D11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73AED-A219-4EFE-9BB9-9BCE5120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2ED77-9300-4A55-BEA0-AFDB5F5C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47B-3889-45FC-B278-AB21E896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89C96-3011-475F-BA52-9FE34084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5A37F-8F3C-49AA-AE0E-DFDA2DEC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A4AEB-563C-4B2D-9EC8-FC8EB715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B44D1-6A4C-4992-AED1-4E4A9C0F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F65FB-2910-426A-A1C6-12D8194A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F25A9-BD5B-452D-B0C1-C91100B5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F1401-2ADA-4536-8F44-23605E76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4584C-6A70-4720-B2F1-68E3301D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B7F17-C4DE-4A73-AA88-D215630B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76363-3410-42E6-84DA-145CD3CB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A6C5-E5C8-4EA3-B1D8-9D744FFB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4D3E2-6CE7-4E49-B9F1-32B23DB5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5AE44-38FC-4997-BABD-E66C8868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C26FE-3163-4036-B3DD-39854947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A3677-82A5-4518-8234-B35FD6A4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71AE7-2A31-45E9-A5C9-BC56194F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2A506-DB6A-42F7-B5EC-F59281A2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4634D-465C-4F62-9848-17C5FA90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A568A-C66A-483B-94DB-B79CC985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D633C-B531-4110-98DC-B42D4AD8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DD3AF-8043-433D-85CF-FF048AC7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675E-1365-4620-8996-CD9BDEA9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462C3-69AD-4CC5-8E5A-F46EB9D9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D7897-B82A-489F-93E3-80CF02E1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61251-7220-4B38-ADE8-BE07FC0C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54F10-734E-42F9-9F96-24D4BB90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875B4-DF00-4712-926C-4EB56343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C23B3-FD71-41EA-9089-B21671D3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F2E63-8C2B-4800-A609-3F21EB2F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B0B34-633C-4B6F-A994-2D0D2B88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F996B-0D08-4BAA-869A-E240BC17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AB9222-E271-4D50-A2C1-842C2BAF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EB3C-BE0F-4D06-8DEE-D4214A70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432A0-FE9E-4306-9EB0-E3542BEE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75A90-6C83-4846-8C99-3C23D93B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0D4DF-0D4F-46B5-B174-A5E6119A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71E60-FE81-4A93-A2CC-9413B2B8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A63A2-6A74-44C9-B826-B6A52976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483C1-8F47-419E-9508-D02AB769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CD3D5-F7E7-4480-AF49-095CDE75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876A2-933A-46F8-939B-2DB37695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BDED9-0FC7-4EF3-8EDC-B731A0AC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B3A91-7A4C-4C2D-A2B5-FDE95499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AFD0-DDA1-41F0-B0EE-7F8B255B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F00AC-CF37-4E23-AA38-98936C49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E93EA-4DC6-4BDC-954B-E89C2661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391A1-700E-48F1-85E9-B9A82B89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4B189-C1B0-456F-BABB-4B76B3C7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F5B7E-3A58-4E9A-B497-CA0359EB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FE09E3-1389-45A2-A111-8E9E5A47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BF98C-409C-44A8-B9E5-C5F571B2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DC8B1C-94A7-4279-B1B7-A7BBA103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FDED2-CE41-4F0F-A001-E387DDE1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EB6E4-FE06-48CD-AE9C-03E25ACB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40E1-E3C5-423A-83D9-CB8769D5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EDC0C-7A66-48E6-9EFF-C357D91F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B101D-3074-4510-A822-F36E8BB3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21F4EC-1474-4FDE-B1A2-4205AF52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109E4E-80FB-4DCF-9EE2-CF5D562B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03CE81-E2FF-490F-BC3A-D435278B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0B864-F338-4F48-BD01-4780512D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00701-A766-43C7-B247-9E212BD3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2D2819-605A-4D9C-81D0-07D9A540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20628A-7FC7-484C-B32A-1BFC561D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6D128-A404-4704-A029-44C57954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9E40-FE14-4880-B21C-8B78BB78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562206-BDE1-4E20-B3D6-BC800529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1E867-1C82-487C-9E68-5B06565A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A45D2-A42D-4603-A0C8-ECBF609A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BD79F-C7DF-4050-85AB-57B068EB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38A3C6-E1F6-4290-9EC1-898C3A5D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4EBB5-E345-4218-B6DB-E9FBBFC9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B53DA5-DE48-42F0-BFA9-650D1E0E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E263E3-3CF3-453E-8C98-1D9F953F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BDFFDB-7CE0-45F7-83AC-D352656D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BF1D9F-2A0E-41F5-B888-A3B384BC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4A70-4D3C-403B-9088-82A17E0E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1F6590-A7C8-49DB-BF6F-0F263400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A2BA2-4CC8-4206-BE1C-F098557C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57A1F0-19EC-4A4B-9CDA-F2368BED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29B596-72B7-4933-AA76-806CBE83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8BFF26-F47D-43FD-8D66-142C4A06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F8658-681E-40DD-8EBF-1847E4CF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B10DA-816E-4528-873B-76D78EE4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6B668-238A-49FA-BD9A-236E887A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0A9FF9-B72E-4F2D-803D-5C60D902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72D961-53BE-4807-A8DB-F645C102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CFC-96CC-431A-9278-1A0DC334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81E8-DF6C-40C8-8C21-2E770342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8A9276-FF59-4284-94BE-3D980561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5BC2CB-EC9F-4E22-A294-63550EC6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718B13-0CE9-4123-8DEB-18B9C20B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6ADD2-C83F-4DF7-8D73-AC0C88D2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197B42-848E-488A-92B1-1AC20139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75E56-A146-4871-AE47-D6F985FB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9BC974-AA24-48C4-B1CE-1466130F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6D1229-9D00-4185-A91F-5E9E98CA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F9767E-2BAB-466B-BC53-E6230D31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E4B0AE-521E-4C59-9EDD-30BB47B4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9944-5A2E-488C-B8F4-A2043F8F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142B23-17D8-424C-AC7A-101765EC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942E96-38D3-47AB-A1A2-0133AA95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E8B442-8CAD-4F6D-9C8B-95EDCBF6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001FDD-E13C-4EBA-9496-6C76919C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2D4EC4-A8D6-472E-A2EC-02457953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FC4A8-E94F-4EC7-8C8A-004D61DA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BC7B4-9ACB-48F2-8600-6993C44F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0CCD96-9266-41CE-A513-BACE1EE1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CF254F-22A3-41CF-BE12-DFC34041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126087-5BC6-428C-8C7B-4A40005D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E908-DAB6-4C66-BABD-BAF9C6D1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2AE64E-A13B-4900-B5B2-7208008B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E5D324-2AD9-4542-A5CF-55A42611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E37BBE-CBD0-476B-A7FD-784EB413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D7A2EC-2ABB-448C-840E-8571DF9D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AC9EB1-D614-4295-9947-77F23748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0AF970-A034-4BB3-B5E5-CC291272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262D9A-AAC1-4570-914B-78621F64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86E07E-1E82-48FB-9C68-FE6391D1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23B7DC-1579-4CB4-8AFF-54FB381E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858012-77CB-4D62-86D1-426C30E6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8632-4E75-477B-A3FC-0850FAF3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95359F-279D-4D78-8BEA-60BE4A09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FBF022-7AE4-40A0-A888-218C94A8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800DD3-3954-415F-AB4E-0C51659D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D5019B-915E-472A-B0E9-129574CA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14B56C-3A18-4FC0-B654-C5942FD2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65EB49-AFC9-48F7-AEF8-E15E4F02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BC70CC-2908-4CFC-8A81-69F2CB3A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28F71A-3A3F-484C-948A-5406990C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91D9E9-A872-4545-90E1-A40AA8C7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CD19CD-FB8C-4BD3-BE38-6682569E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63B8-47C2-41D0-AAD6-9EEFA0A8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BCC96-A16C-4A40-A669-AA12825C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090093-5F5E-488A-9909-5C74BCB9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B2B8E4-B667-4259-B2C8-83C3CA06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88F392-91B1-4249-B2FB-97F67A85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0C2FA1-D67E-4C2E-969A-C42EF32B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C186D6-091F-4364-B2E9-3A276447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6EFDE8-B9EE-4FF2-BAA6-36EF6506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8B7870-1AFB-4E5F-BB98-17FE62E3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4B98C9-A33E-4A34-9949-80352FC6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93E098-34F4-4BBF-A9A0-B914A804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BD8F9-A30B-4FEE-9461-581454CA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2258D6-AA08-48DB-8E25-3952B705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26A995-D2CE-410D-88C5-2ED0F189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B85567-5146-4530-BD59-A4029714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B7B9A-5E0E-41D7-BE17-9A936513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65E3-7F54-4EFD-A921-982DC656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6BB01-E1FB-4D3D-9B6E-29189B6B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16128-54F5-4441-9926-A7ABADCC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777-D9DF-4E60-A45C-722EFCA2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BC93D-38EF-4AA3-9FEE-78785093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8FA30-31B5-4784-978B-E7C2F3D5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0137-014C-4DF7-854B-293CDDF0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07D5-1E59-4B64-9A15-31DBA9FE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9B20-692A-4A1C-9FED-40614FEF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F8E2-4780-481D-978F-84F5FE9C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7C60F-C9C1-4045-8293-05F17327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0FBCD-A22C-47D2-9C89-3EB67A3A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160E9-ADAB-485A-899C-352DEAE7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FDBC0-B659-401B-9441-5339FF26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1F9-4232-43F7-9788-A504002A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13385-6BC4-4B0E-8079-4B8698FF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DF450-6B39-4B72-ABF6-2DAFECC2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0608D-D7C0-45BF-8330-0F4EED06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D704A-B7E2-407B-9A81-79E8B020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8F41-5BD3-41D5-853E-83D161A2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1E6E8-A266-49F0-A634-8CFFDB24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A6304-18E0-4E1D-B5BB-C54F0037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7B085-D431-4AFB-8998-396BDEC6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CD6CA-9500-46B1-8F6B-29B2A100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9ABB3-C240-4C45-B469-5AF1167E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C30-8BDC-43D2-A714-4B98580A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9D7CF-BFC8-412C-9660-0C61B792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91F61-F2DC-4CF7-A88E-30149FB9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F14A3-5FBB-4507-9400-667715D3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E0B27-E849-4666-ADFB-55B4B142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A48F5-EBA6-4059-AFAB-1E926499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1385B-27C8-4D2C-AF75-B8935710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5A83D-E7B2-4465-BF52-E2AA9091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450E7-9651-4D7A-A929-F666B3E5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79550-B8A9-4EF3-8593-BAAC1790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931CF-8B92-48B3-885A-42A30E31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656-1AD4-4046-BA77-458F366A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32DC4-0F40-4962-8E26-4E6F71B2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4A223-57B5-477B-A7B9-933CDDDE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AF656-FF4A-403B-8D35-FED7388B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4EF0A-792B-46F0-A84C-226EC1D8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4DE12-E244-46E9-9F7A-84D4E078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1881C-EA67-448B-A9BF-1FC62CB7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28790-945B-4030-8F5E-2EDF5982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34E6C-1BFF-481C-834E-E733918C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5EF66-2FE5-4C23-8BA0-E34A4AEB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A9175-B3EB-440E-AE98-05BA4733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86B-199E-456B-8930-D75660B0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13662-AD6C-4BE7-9846-F1F519DF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A8D63-ECC2-4B52-B38F-08405ED2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17439-16AF-475F-BC14-0F97B740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BE78D-97E6-422E-BE29-3439F686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2660C-A404-4D39-8EFB-D76A65CA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758CD-0A55-4133-9B6A-9F38A1A7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E5963-DBF7-4AB5-B0B5-B3C71601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DE94F-770F-4179-B2E1-BDF14179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5371F-6A89-4353-8D60-D5B03062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8A1BB-66B3-407B-BDCC-712C6518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0B9-7269-4670-AA71-500C10A5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3EF86-E07F-4175-8020-1E6719EC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F948B-A281-4AF4-AB74-E34B3997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A464C-DB8D-4BDB-B4A9-0200B19E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8C755-5152-490E-8014-1B30BFDE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B20B8-D652-46C4-9740-BDAEBA1B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C0BC0-E398-498B-ADFB-DCADAC84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366CE-E83C-4EE7-9E6E-7549FC66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4A296-1326-4A68-A55B-EE63E830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72BD6-3371-42B1-BABD-F0245966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185F4-BAA9-4C94-9011-63C57A6F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621-FDFE-4AEE-BAFC-9B88BCA3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9B38F-F68D-477B-AC94-E7370531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A6A10-627D-4830-8FF8-A244999F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EE0D6-361F-40FA-B590-3E5B8C5A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BBA0E-361D-42CC-87AD-5F7A8076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45F07-5479-4DF5-B500-10641F54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DA1B5-ABEE-440F-ABA2-36AC5F9B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4C20B-1D40-4A4E-981B-9A51C2D3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869FF-5812-4438-B1EE-A2A04BCC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9C12C-932B-4592-9478-72084216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E0199-38D9-40F4-BE5D-EA94FAC8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E567-855A-41BE-ACBA-C876185D7A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5DDB-C736-46C6-ADD5-DB73A6F6A4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FB00-927F-4DD9-81FE-705674996E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AF53-7A07-4664-8B2A-9CAF10AC75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99C5-1A09-4628-9B27-C2A38531F0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9F51-8EFA-4E11-AEE3-ACA50193F8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6D73-2439-4521-A321-3C4F230FCB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E05A-77E5-4463-97A2-FE70785C59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FB48-9FF9-440B-88A4-CCCE420979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8891-7B6A-4604-8EDA-F713B4DEDF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EB4A-2C55-45DA-9F15-68096E30D4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55A8-8137-4FB5-8354-EE5480C2CB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C391-C592-4FBC-B31E-830070DCD7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CF17-28CE-4347-8F33-11715B0BCB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E486-E6A2-42F6-8FDC-69750FCFC4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A4F5-3B73-46DE-A0E6-7862CD1410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7E06-481A-4D65-A35B-0209476779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4A85-0A09-405A-81CB-72382D228E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4426-D329-4F4D-A392-5CAFF6AC89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F84A-884C-4E82-9A25-8550BC0814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DAC9-CCFA-4570-B835-A471716EFA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CBA5-12A0-4592-8F84-0213318DD7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E386-E2AC-4918-A32D-AE23BA54AD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A456-6AFD-4F59-B3CD-2EFC938F03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C70A-C255-4E59-9AC5-BC04005AF9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BF60-D840-4ED8-A380-BC7AB6985A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2DCE-9EA2-4CA4-B718-9C80928C51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895F-CEBD-4A06-BF41-EC299B271C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E5D7-B5C5-458A-B6E9-BB091F5A5B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71BE-0DF8-4BBE-B909-428952F481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112C-2B33-4324-B53D-97836B386D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5B47-B061-4EFA-B9F1-0E9EE093FE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8E96-B0E7-4AEF-87BE-B46C2CA68D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28F7-75A2-4E7A-8BA4-F72B050897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DEC6-399F-49A9-9E79-0F9A697DB1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2925-9AF8-47CE-BBF2-7BA86777E9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4224-2CA0-4603-81A5-F64ACEC7EE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B6A9-368B-4CCE-BDBD-CB96EEADFE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94AA-CA7A-4A9D-81D5-37CF0E7BAC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FD03-D426-410D-BB1B-FE3B1F1F80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48080" y="3257640"/>
            <a:ext cx="404784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57320" y="858960"/>
            <a:ext cx="8829360" cy="5810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300720" y="220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003640" y="3141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516720" y="4797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60432" descr=""/>
          <p:cNvPicPr/>
          <p:nvPr/>
        </p:nvPicPr>
        <p:blipFill>
          <a:blip r:embed="rId5"/>
          <a:stretch/>
        </p:blipFill>
        <p:spPr>
          <a:xfrm>
            <a:off x="582480" y="1728720"/>
            <a:ext cx="1629000" cy="381240"/>
          </a:xfrm>
          <a:prstGeom prst="rect">
            <a:avLst/>
          </a:prstGeom>
          <a:ln w="0">
            <a:noFill/>
          </a:ln>
        </p:spPr>
      </p:pic>
      <p:pic>
        <p:nvPicPr>
          <p:cNvPr id="927" name="图片 60433" descr=""/>
          <p:cNvPicPr/>
          <p:nvPr/>
        </p:nvPicPr>
        <p:blipFill>
          <a:blip r:embed="rId6"/>
          <a:stretch/>
        </p:blipFill>
        <p:spPr>
          <a:xfrm>
            <a:off x="3189240" y="1728720"/>
            <a:ext cx="1629000" cy="38124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60434" descr=""/>
          <p:cNvPicPr/>
          <p:nvPr/>
        </p:nvPicPr>
        <p:blipFill>
          <a:blip r:embed="rId7"/>
          <a:stretch/>
        </p:blipFill>
        <p:spPr>
          <a:xfrm>
            <a:off x="582480" y="2205000"/>
            <a:ext cx="1629000" cy="38088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60435" descr=""/>
          <p:cNvPicPr/>
          <p:nvPr/>
        </p:nvPicPr>
        <p:blipFill>
          <a:blip r:embed="rId8"/>
          <a:stretch/>
        </p:blipFill>
        <p:spPr>
          <a:xfrm>
            <a:off x="3189240" y="2205000"/>
            <a:ext cx="1629000" cy="38088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60436" descr=""/>
          <p:cNvPicPr/>
          <p:nvPr/>
        </p:nvPicPr>
        <p:blipFill>
          <a:blip r:embed="rId9"/>
          <a:stretch/>
        </p:blipFill>
        <p:spPr>
          <a:xfrm>
            <a:off x="582480" y="2679840"/>
            <a:ext cx="1629000" cy="38088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60437" descr=""/>
          <p:cNvPicPr/>
          <p:nvPr/>
        </p:nvPicPr>
        <p:blipFill>
          <a:blip r:embed="rId10"/>
          <a:stretch/>
        </p:blipFill>
        <p:spPr>
          <a:xfrm>
            <a:off x="3189240" y="2679840"/>
            <a:ext cx="1629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266760" y="984240"/>
            <a:ext cx="8610480" cy="5324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518472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3456000" cy="3193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468360" y="3933720"/>
            <a:ext cx="3456000" cy="6476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3456000" cy="319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468360" y="4941720"/>
            <a:ext cx="3456000" cy="319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684360" y="5300640"/>
            <a:ext cx="439236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8"/>
          <a:stretch/>
        </p:blipFill>
        <p:spPr>
          <a:xfrm>
            <a:off x="755640" y="5661000"/>
            <a:ext cx="4608360" cy="3189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9"/>
          <a:stretch/>
        </p:blipFill>
        <p:spPr>
          <a:xfrm>
            <a:off x="8388360" y="3141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0"/>
          <a:stretch/>
        </p:blipFill>
        <p:spPr>
          <a:xfrm>
            <a:off x="8388360" y="3500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1"/>
          <a:stretch/>
        </p:blipFill>
        <p:spPr>
          <a:xfrm>
            <a:off x="8388360" y="3933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2"/>
          <a:stretch/>
        </p:blipFill>
        <p:spPr>
          <a:xfrm>
            <a:off x="8459640" y="4292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3"/>
          <a:stretch/>
        </p:blipFill>
        <p:spPr>
          <a:xfrm>
            <a:off x="8532720" y="4653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4"/>
          <a:stretch/>
        </p:blipFill>
        <p:spPr>
          <a:xfrm>
            <a:off x="8532720" y="5013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5"/>
          <a:stretch/>
        </p:blipFill>
        <p:spPr>
          <a:xfrm>
            <a:off x="8532720" y="5445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6"/>
          <a:stretch/>
        </p:blipFill>
        <p:spPr>
          <a:xfrm>
            <a:off x="8459640" y="5805360"/>
            <a:ext cx="3589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21:1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